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19B14-FD7D-4D45-810E-349960094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7D8A1-29FE-4295-8034-114D72842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FC6D8-0499-42B5-82F6-3A7E781CD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0686C-91B3-43C8-BBC6-C177C8D26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748B2-39F6-435D-A94E-04BA95460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FCF58-53B6-4A47-904B-4953E72AC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17B66-377D-40AF-B35A-EE280B955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1BC66-B849-4EA4-9739-673C237FB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0B571-E3CA-4A8A-95C8-04FEA5A1B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75DD4-3233-4C3A-8F2E-F80294E0B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4282F-EBDD-48D3-91AD-CBCC23133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FE1FD-1220-498C-A387-223DD2AB4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EB93A-E546-4EB9-A757-0A273B4E5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45BAF-D1E9-4C9C-8420-BDFD2F608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70CC4-E3C1-432F-B9B9-6AEDA6FD5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112D2-6C91-4CE4-9EE8-C14CF1B3A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D9968-6E28-4E51-8C74-A88F60035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E86FF-0CCC-45C7-89B2-BD6019AA7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33B9B-0EF0-45EF-8481-045BE69E0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7FECD-B3C0-452B-B4F3-22924300B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3B164-2FDD-4736-BED1-A84D5B057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64F2A-E61F-49DC-B4BF-CCD741CC4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45F4A-471C-4C3E-A13A-E00EC155F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1895E-D861-4C0D-A4CF-BE663032E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160C1-01F6-4F82-8C86-1F95249F3CF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5A5A5-E6D2-4746-83A0-8E6D5FB0B22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Link Contro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Enhanc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acknowledge frames without permitting further transmission (Receive Not Read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end a normal acknowledge to resu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duplex, use piggyb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 to send, use acknowledgement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data but no acknowledgement to send, send last acknowledgement number again, or have ACK valid flag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bits added by transmitter for error detection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of parity bit is such that character has even (even parity) or odd (odd parity) number of 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number of bit errors goes un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yclic Redundancy Che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block o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transmitter generate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which is exactly divisible by som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divides frame by tha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remainder, assume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ath, see Stallings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ction and correction of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mag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 repeat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acknowled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ransmission after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gative acknowledgement and re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Repeat Request (ARQ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 back 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reject (selective retransmiss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singl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for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eceived frame damaged, discard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has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within timeou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damaged,transmitter will not recognize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gets two copies of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ACK0 and ACK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8725"/>
          <a:stretch/>
        </p:blipFill>
        <p:spPr>
          <a:xfrm>
            <a:off x="5208480" y="0"/>
            <a:ext cx="3478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slid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error, ACK as usual with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o control number of outstanding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error, reply with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that frame and all future frames until error frame received cor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must go back and retransmit that frame and all subsequent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error i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et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all subsequ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suring the sending entity does not overwhelm the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ing buffer over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to emit all bits into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for a bit to travers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send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 rejec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oes back to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 and no additional frame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nothing and returns neither acknowledgement nor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imes out and sends acknowledgement frame with P bit set to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terprets this as command which it acknowledges with the number of the next frame it expects (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hen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send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which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s are cumulative, so next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may arrive before transmitter times out o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ter times out, it sends acknowledgement with P bit set as bef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can be repeated a number of times before a reset procedure is initi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Rej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lost frame (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50003" b="9551"/>
          <a:stretch/>
        </p:blipFill>
        <p:spPr>
          <a:xfrm>
            <a:off x="5665680" y="0"/>
            <a:ext cx="2944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called selective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jected frames are re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equent frames are accepted by the receiver and buff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s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maintain large enough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login in 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50003" t="0" r="0" b="9551"/>
          <a:stretch/>
        </p:blipFill>
        <p:spPr>
          <a:xfrm>
            <a:off x="5667480" y="0"/>
            <a:ext cx="2943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igh Level Data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33009, ISO 433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St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operation of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are called com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s separate logical link to each second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control of prim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calle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bin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ssue commands an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Link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rimary and one or more secondary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combined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l of Frame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338"/>
          <a:stretch/>
        </p:blipFill>
        <p:spPr>
          <a:xfrm>
            <a:off x="2066760" y="1847880"/>
            <a:ext cx="501048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rmal Response Mode (N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nitiates transfer to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only transmit data in response to command fro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multi-drop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computer as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 as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(AB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station may initiate transmission without receiving per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wid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olling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Response Mode (A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initiate transmission without permission for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esponsible for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r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nsmissions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frame format for all data and control ex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84435"/>
          <a:stretch/>
        </p:blipFill>
        <p:spPr>
          <a:xfrm>
            <a:off x="457200" y="2971800"/>
            <a:ext cx="81532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ag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mit frame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lose one frame and open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unts for flag sequence to synchron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stuffing used to avoid confusion with data containing 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 inserted after every sequence of five 1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eceiver detects five 1s it checks next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0, it is dele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1 and seventh bit is 0, accept as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sixth and seventh bits 1, sender is indicating ab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174840" y="0"/>
            <a:ext cx="596916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t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 with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sible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1788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secondary station that sent or will receiv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extended to multiples of 7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SB of each octet indicates that it is the last octet (1) or not (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nes (11111111) is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4628" t="23602" r="5557" b="64662"/>
          <a:stretch/>
        </p:blipFill>
        <p:spPr>
          <a:xfrm>
            <a:off x="380880" y="5224320"/>
            <a:ext cx="853452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for different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ation - data to be transmitted to user (next layer u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ow and error control piggybacked on information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ervisory - ARQ when piggyback 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numbered - supplementary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one or two bits of control filed identify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bits explained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39671" r="0" b="7533"/>
          <a:stretch/>
        </p:blipFill>
        <p:spPr>
          <a:xfrm>
            <a:off x="457200" y="137952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receives frame and replies with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waits for ACK before sending nex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can stop flow by not send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s well for a few large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ll/Final B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depends on con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to solicit (poll) response from p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indicates response to soliciting com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ormation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information and some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contain integral number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Check Sequence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al 32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information, supervisory and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53368"/>
          <a:stretch/>
        </p:blipFill>
        <p:spPr>
          <a:xfrm>
            <a:off x="457200" y="1382760"/>
            <a:ext cx="8001000" cy="49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47755" r="17774" b="6244"/>
          <a:stretch/>
        </p:blipFill>
        <p:spPr>
          <a:xfrm>
            <a:off x="457200" y="1363680"/>
            <a:ext cx="6781680" cy="50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APB,LAP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X.25 (ITU-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 - 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 link between system and packet switching network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D-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DN (ITU-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ways 7-bit sequence numbers (no 3-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address field contains two sub-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for device and one for user (next layer u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L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frame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ntrol split between medium access layer (MAC) and LLC (on top of MA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rimary and secondary - all stations are pe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addresse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er and recei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t MAC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2 bit CR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and source access points (DSAP, S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over high speed packet 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place of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Access Procedure for Frame-Mode Bearer Services (LAP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- similar to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e - subset of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7-bit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3 or 4 octet address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ink connection identifier (DLC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n frame relay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block of data may be split into smal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buffer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detected sooner (when whole frame receiv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error, retransmission of smaller frames i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s one station occupying medium for long peri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 becomes inadequ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AT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across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HDLC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mat called “cell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53 octet (424 b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s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HDLC, frame relay, Ethernet and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Link Util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-84" r="0" b="-84"/>
          <a:stretch/>
        </p:blipFill>
        <p:spPr>
          <a:xfrm>
            <a:off x="1114560" y="1676520"/>
            <a:ext cx="69148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s 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multiple frames to be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buffer W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can send up to W frames without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is numb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number of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bounded by size of field (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are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6023"/>
          <a:stretch/>
        </p:blipFill>
        <p:spPr>
          <a:xfrm>
            <a:off x="1066680" y="1714680"/>
            <a:ext cx="6782040" cy="50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liding Wind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9007"/>
          <a:stretch/>
        </p:blipFill>
        <p:spPr>
          <a:xfrm>
            <a:off x="1143000" y="1704960"/>
            <a:ext cx="708660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07:38:10Z</dcterms:created>
  <dc:creator>Adrian &amp; Wendy</dc:creator>
  <dc:description/>
  <dc:language>en-US</dc:language>
  <cp:lastModifiedBy>Adrian J Pullin</cp:lastModifiedBy>
  <dcterms:modified xsi:type="dcterms:W3CDTF">1999-10-13T14:41:24Z</dcterms:modified>
  <cp:revision>31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